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43E-1C61-47F5-B708-6AB84449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4F8-B6B1-4C8E-AF8D-50024D15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627-FDA7-4BA8-B6BC-6429761F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5A5-8F15-493D-9FE8-6FC63986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BB19-5A12-4670-927C-3328B5E0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B197-9A82-4957-85C9-D3D73AA6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DAD5-9AA4-44DA-9285-970E5FFE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4827-CCAE-4B1D-89F0-52BCC457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9ADF-AB1F-4825-ABE8-59B78F92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0711-1973-4B35-8FFA-7952847C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BB75-DE82-4E5E-82AB-DAC305A8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B73-271D-4345-867B-E9631352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2758-B4C8-451B-965E-524A474B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86F8-5056-45D4-B95B-E480B45F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B120-7B7C-4D68-951A-D67E902E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176C-E7F0-4545-BF97-CC1EB7F6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F5E5-5F26-4328-AE0E-8D2EC1AF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A0A-F9CB-49A4-B4B0-E5B9728A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194-4F1F-4249-BCF5-A98DEBA5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2B0-F348-4433-A4CE-5CB45DAA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F55-9101-4440-8AD0-13547619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B3A-B427-43B0-B4DC-D7BD5EFD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8EF-4659-4EB7-B822-537DE3EB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435-9A10-457C-AC88-81C0C801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FA5C-09A2-4941-ACD2-A84548669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60840"/>
              <a:ext cx="945720" cy="709920"/>
              <a:chOff x="3484080" y="96084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6084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7260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0560"/>
                    <a:ext cx="2559600" cy="2741040"/>
                    <a:chOff x="5761080" y="2320560"/>
                    <a:chExt cx="2559600" cy="27410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18600"/>
                      <a:ext cx="21290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3800"/>
                    <a:ext cx="3040200" cy="2530080"/>
                    <a:chOff x="5787360" y="214380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680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772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67400"/>
                    <a:ext cx="3134520" cy="1607760"/>
                    <a:chOff x="5767560" y="1967400"/>
                    <a:chExt cx="3134520" cy="160776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6640"/>
                      <a:ext cx="2067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020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2240"/>
                    <a:ext cx="2658960" cy="443880"/>
                    <a:chOff x="5851080" y="1812240"/>
                    <a:chExt cx="2658960" cy="443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2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0320"/>
                    <a:ext cx="2364120" cy="785520"/>
                    <a:chOff x="5788440" y="130032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0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8888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5640" y="2472120"/>
                    <a:ext cx="2555640" cy="2739600"/>
                    <a:chOff x="2645640" y="2472120"/>
                    <a:chExt cx="2555640" cy="273960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54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3360"/>
                      <a:ext cx="1140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3760"/>
                    <a:ext cx="3039480" cy="2532960"/>
                    <a:chOff x="2084040" y="2363760"/>
                    <a:chExt cx="3039480" cy="253296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920" y="2966400"/>
                      <a:ext cx="223416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48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3760"/>
                    <a:ext cx="3134520" cy="1608840"/>
                    <a:chOff x="2010960" y="2183760"/>
                    <a:chExt cx="313452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800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280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3000"/>
                    <a:ext cx="2323080" cy="1083240"/>
                    <a:chOff x="2887920" y="1233000"/>
                    <a:chExt cx="2323080" cy="10832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34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66920"/>
                      <a:ext cx="81612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8360"/>
                    <a:ext cx="2170080" cy="1505520"/>
                    <a:chOff x="3161160" y="828360"/>
                    <a:chExt cx="2170080" cy="15055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600"/>
                    <a:ext cx="1987200" cy="1828080"/>
                    <a:chOff x="3437640" y="435600"/>
                    <a:chExt cx="1987200" cy="18280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616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000" y="665640"/>
                      <a:ext cx="828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30920" y="322200"/>
                    <a:ext cx="1459440" cy="1898640"/>
                    <a:chOff x="4030920" y="322200"/>
                    <a:chExt cx="1459440" cy="1898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1800"/>
                      <a:ext cx="13600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6320" y="533160"/>
                      <a:ext cx="729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6080"/>
                    <a:ext cx="2318760" cy="1113840"/>
                    <a:chOff x="5661720" y="946080"/>
                    <a:chExt cx="231876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812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432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8840"/>
                    <a:ext cx="2201400" cy="1452600"/>
                    <a:chOff x="5529600" y="618840"/>
                    <a:chExt cx="220140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136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60040" y="269280"/>
                    <a:ext cx="1189800" cy="1892880"/>
                    <a:chOff x="5360040" y="269280"/>
                    <a:chExt cx="1189800" cy="18928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840" y="1410120"/>
                      <a:ext cx="13078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5640"/>
                      <a:ext cx="70380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79080"/>
                    <a:ext cx="1890720" cy="1797120"/>
                    <a:chOff x="5349960" y="379080"/>
                    <a:chExt cx="1890720" cy="17971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520" y="1378080"/>
                      <a:ext cx="142884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6360"/>
                      <a:ext cx="7682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3840"/>
                    <a:ext cx="1481400" cy="3006000"/>
                    <a:chOff x="3790800" y="2643840"/>
                    <a:chExt cx="1481400" cy="30060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5120"/>
                      <a:ext cx="196776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16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4680" y="2691720"/>
                    <a:ext cx="874440" cy="2935440"/>
                    <a:chOff x="4504680" y="2691720"/>
                    <a:chExt cx="874440" cy="29354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79520" y="3480120"/>
                      <a:ext cx="18925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2480" y="4805280"/>
                      <a:ext cx="1013040" cy="54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89840"/>
                    <a:ext cx="1758240" cy="3032640"/>
                    <a:chOff x="5646240" y="2589840"/>
                    <a:chExt cx="175824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2840" y="3393000"/>
                      <a:ext cx="203652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8520"/>
                      <a:ext cx="108972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6800"/>
                <a:ext cx="6732720" cy="4526280"/>
                <a:chOff x="2174400" y="67680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6800"/>
                  <a:ext cx="6732720" cy="4526280"/>
                  <a:chOff x="2174400" y="67680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032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764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672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2760"/>
                    <a:ext cx="3133440" cy="2940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6800"/>
                    <a:ext cx="2282760" cy="284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020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872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8720"/>
                  <a:ext cx="546120" cy="10342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46640"/>
              <a:ext cx="6411960" cy="4712040"/>
              <a:chOff x="2343960" y="746640"/>
              <a:chExt cx="6411960" cy="47120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7060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615040"/>
                <a:ext cx="2617200" cy="28436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57120"/>
                <a:ext cx="1534320" cy="29361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73360"/>
                <a:ext cx="2930760" cy="29361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85560"/>
                <a:ext cx="46980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71880"/>
                <a:ext cx="123804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8308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8224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20000"/>
                <a:ext cx="133848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32800"/>
                <a:ext cx="85824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435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44880"/>
                <a:ext cx="1872360" cy="131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46640"/>
                <a:ext cx="819000" cy="176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8952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64C3-CF3D-4ED7-9E2E-56CC99CD19B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5335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Picture 1" descr=""/>
          <p:cNvPicPr/>
          <p:nvPr/>
        </p:nvPicPr>
        <p:blipFill>
          <a:blip r:embed="rId1"/>
          <a:stretch/>
        </p:blipFill>
        <p:spPr>
          <a:xfrm>
            <a:off x="3027240" y="-152280"/>
            <a:ext cx="6066000" cy="708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160" y="426708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Road to the U.S. The Declaration of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ercive/Intolerable 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Coercive/Intolerable Act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losed the port of Bost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ook away trial by jur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owed soldiers to enter homes without warra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ade public assembly illeg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owed for the quartering of soldie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spended Habeas Corpu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ook local control away from the legislative assembl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irst Continental Congres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o fight the Intolerable Acts representatives from 12 of the colonies met together in 1774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ecided to send a letter to King George III demanding rights be restored (and threatening to boycott again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letter was ignored by King George III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 important agreement that was made by the delegates was that an attack by England upon one of the colonies would be viewed as an attack on each of the colonies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is the beginning of a unified American fron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so, the delegates decided to meet again if things didn’t get better in a yea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-381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cond Continental Congres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2280" y="272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King refused to give in. Later that year colonial militias and British soldiers shot at each other in the towns of Lexington and Concor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May 1775, delegates assembled in Philadelphia for a Second Continental Congres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wanted Independence while others wanted to reconcile with Englan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3276360" cy="217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Declaration of Independ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a year a committee was formed to write a formal declaration of American independenc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omas Jefferson was the main writer (Took many ideas from English Philosopher </a:t>
            </a:r>
            <a:r>
              <a:rPr b="0" lang="en-US" sz="2800" spc="-1" strike="noStrike">
                <a:solidFill>
                  <a:srgbClr val="0070c0"/>
                </a:solidFill>
                <a:latin typeface="Arial Black"/>
              </a:rPr>
              <a:t>John Locke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lled for a new form of government, equal rights and </a:t>
            </a:r>
            <a:r>
              <a:rPr b="0" lang="en-US" sz="2800" spc="-1" strike="noStrike">
                <a:solidFill>
                  <a:srgbClr val="92d050"/>
                </a:solidFill>
                <a:latin typeface="Arial Black"/>
              </a:rPr>
              <a:t>liste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the </a:t>
            </a:r>
            <a:r>
              <a:rPr b="0" lang="en-US" sz="2800" spc="-1" strike="noStrike">
                <a:solidFill>
                  <a:srgbClr val="92d050"/>
                </a:solidFill>
                <a:latin typeface="Arial Black"/>
              </a:rPr>
              <a:t>grievance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against the k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Declaration of Independ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efferson believed that because of a 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“long train of abuses”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 the British government no longer had authority over the coloni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681200" y="0"/>
            <a:ext cx="5786280" cy="6864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 </a:t>
            </a:r>
            <a:r>
              <a:rPr b="0" lang="en-US" sz="4400" spc="-1" strike="noStrike">
                <a:solidFill>
                  <a:srgbClr val="92d050"/>
                </a:solidFill>
                <a:latin typeface="Arial Black"/>
              </a:rPr>
              <a:t>July 4th 1776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legates voted to approve the wording of the Declaration of Independence and pledged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“their lives, their fortunes and their sacred honor”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Admin</cp:lastModifiedBy>
  <dcterms:modified xsi:type="dcterms:W3CDTF">2011-09-02T11:26:25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